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D6D3-A2B7-44E3-A264-8811A3250A7C}"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76E3-BB4A-4E7F-8FBD-58B2D59517A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iceover scri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training module is part of the ESIP Federation's Data Management Course for Scientists.  The subject of this module is [name of category / name of subcategory, if any, e.g., "The case for data stewardship / Agency Requirements"]. The title of this module is [Subtitle]authored by [Author Name] from [full Organization Name, no acronyms].  Besides the Earth Science Information Partners (ESIP) Federation, sponsors of this Data Management Course are the DataConservancy, [and -- unless there are more sponsors to follow] and the United States National Oceanographic and Atmospheric Administration, NOAA. </a:t>
            </a: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FB4D-A681-4149-A543-56BF818414E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verview Module:  Voiceover Script for Slide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to give you an overview of what this module will cover, we have defined this module 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think the following information might be helpful for you to understand as background for the topics covered in this modu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 high level overview, we'll touch upon these topics in this module:</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6225-0DB6-4215-B6B5-FA8925AD123C}"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levance to Data Management Module:  Voiceover Script for Slide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at you have an idea of what this module will cover, you might be wondering why these topics are important for data management.  To answer that question, please consider the follow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is point, it might seem that managing your data involves a lot more effort than may be warranted.  If so, there are both incentives and warnings to share that might help motivate you to do your part for data management.  As incentives, think about these possibil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the other hand, a few warning thoughts might be in order.  For instance:</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61A6-A7A1-4CF3-90F5-C5717E15682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ources Module:  Voiceover scrip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ve collected some additional resources that might you might find helpful should you need more information about some of the areas that we've covered briefly.  We'd also like to explain why we think they might be useful. </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FB92-8E78-42BE-B73C-59D09A40C25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Module:  Voiceover scrip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in this module, we've made reference to a number of published information sources that we think you may want to review when you want more in-depth information.  The most relevant references are listed here.</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FC1B-F69C-4ECA-8DBA-A4E18129A7D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Relevant Modules Module:  Voiceover scrip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odules of the ESIP Data Management Course have been designed to complement and supplement each other.  In light of this plan, we think you might find the following, related modules relevant to you and why as you gain a better understanding of data management: </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A537-BA0B-468E-9CF1-A573A6A433A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320" y="299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Module Template: </a:t>
            </a:r>
            <a:br>
              <a:rPr sz="4800"/>
            </a:br>
            <a:r>
              <a:rPr b="0" lang="en-US" sz="4800" spc="-1" strike="noStrike">
                <a:solidFill>
                  <a:srgbClr val="000000"/>
                </a:solidFill>
                <a:latin typeface="Helvetica Neue Light"/>
              </a:rPr>
              <a:t>Subtitle</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uthor Name</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Organization</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finition of modu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ackgroun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igh level overview</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levance to Data Manage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y is this importan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 are the carrots and sticks needed to ensure implementation? </a:t>
            </a: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sources</a:t>
            </a:r>
            <a:endParaRPr b="0" lang="en-US" sz="4400" spc="-1" strike="noStrike">
              <a:solidFill>
                <a:srgbClr val="000000"/>
              </a:solidFill>
              <a:latin typeface="Helvetica Neue Light"/>
            </a:endParaRPr>
          </a:p>
        </p:txBody>
      </p:sp>
      <p:sp>
        <p:nvSpPr>
          <p:cNvPr id="74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Where to go for more information &amp; why, briefly</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a:t>
            </a:r>
            <a:endParaRPr b="0" lang="en-US" sz="4400" spc="-1" strike="noStrike">
              <a:solidFill>
                <a:srgbClr val="000000"/>
              </a:solidFill>
              <a:latin typeface="Helvetica Neue Light"/>
            </a:endParaRPr>
          </a:p>
        </p:txBody>
      </p:sp>
      <p:sp>
        <p:nvSpPr>
          <p:cNvPr id="75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Where to find articles, blogs, other “published”, relevant information</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 &amp; how they are related</a:t>
            </a:r>
            <a:endParaRPr b="0" lang="en-US" sz="3400" spc="-1" strike="noStrike">
              <a:solidFill>
                <a:srgbClr val="606060"/>
              </a:solidFill>
              <a:latin typeface="Helvetica Neue"/>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nhoebel</dc:creator>
  <dc:description/>
  <dc:language>en-US</dc:language>
  <cp:lastModifiedBy>nhoebel</cp:lastModifiedBy>
  <dcterms:modified xsi:type="dcterms:W3CDTF">2012-03-15T15:52:29Z</dcterms:modified>
  <cp:revision>44</cp:revision>
  <dc:subject/>
  <dc:title>ESIP Federation 101</dc:title>
</cp:coreProperties>
</file>